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FD6E-105A-4E99-A278-164E659D5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3F5C-E8C7-4F61-9EC9-B87959695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62D2-23FB-4EC8-9A6E-1BFD53550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C9A8-CD0B-4AE9-845E-1F2C6B17E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A1A0-B564-42B1-8995-3617D27AD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15D5-99EB-46C3-ADB4-0B5454087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3EAB-FFDB-4A6C-919D-8A4EA21B5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7CFB-4ADD-40A3-AACA-C2E77C80A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F040-7F81-4847-89FF-E06A215BD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5E13-664F-4A4F-B2EB-04977BD2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E20E-D7EE-48A0-8F8E-B235773A3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7157-61B1-49B9-9718-80F1E1CB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842C2-3B20-45A2-A5AA-E722E8C492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усский язы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ма: «Изменение имён прилагательных по числам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лан /Алгоритм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32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 Прочитай предло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 Найди имя прилагательное и имя существительное, с которым оно связа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 Определи число имени прилагательного по имени существительно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564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небе по…вилось ярк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…нце. Летний дож…ь быстр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кончился. З…лёные листья весе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…шуме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небе по</a:t>
            </a: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илось яркое (ед.ч.) со</a:t>
            </a: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це. Летний (ед.ч.) дож</a:t>
            </a: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ь быстро закончился. З</a:t>
            </a: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ёные (мн.ч.) листья весело з</a:t>
            </a: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уме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Я смог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Я повторил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не было трудно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не понравилось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ебник стр. 93 упр.1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ь рассказ о маме уст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.А.Есенин «Черёмух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ёмуха душист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весною расцв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ветки золотисты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кудри зави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угом роса медвя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лзает по кор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 нею зелень пря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яет в сереб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рядом у проталин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раве, между корне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жи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уится маленький Серебряный руч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ёмуха душиста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есившись стои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зелень золотист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солнышке гор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чей волной гремуче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ветки обдаё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вкрадчиво под круче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й песенки поё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гад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явился из-под сне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видал кусочек неб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амый первый, самый неж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истый, маленький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дснеж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mini_2"/>
          <p:cNvPicPr/>
          <p:nvPr/>
        </p:nvPicPr>
        <p:blipFill>
          <a:blip r:embed="rId1"/>
          <a:stretch/>
        </p:blipFill>
        <p:spPr>
          <a:xfrm>
            <a:off x="324000" y="1341360"/>
            <a:ext cx="842472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ловар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2" descr="Petuh"/>
          <p:cNvPicPr/>
          <p:nvPr/>
        </p:nvPicPr>
        <p:blipFill>
          <a:blip r:embed="rId1"/>
          <a:stretch/>
        </p:blipFill>
        <p:spPr>
          <a:xfrm>
            <a:off x="457200" y="1557360"/>
            <a:ext cx="4038480" cy="4535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untitled"/>
          <p:cNvPicPr/>
          <p:nvPr/>
        </p:nvPicPr>
        <p:blipFill>
          <a:blip r:embed="rId2"/>
          <a:stretch/>
        </p:blipFill>
        <p:spPr>
          <a:xfrm>
            <a:off x="4992840" y="1557360"/>
            <a:ext cx="361152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мя существитель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то часть речи, которая обозначает предм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ечает на вопро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мя прилагатель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то часть речи, которая обозначает признак предм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ечает на вопро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а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о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Arial"/>
              </a:rPr>
              <a:t>«Изменение имен прилагательных по числам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читай, определи число имени прилагательного по числу имени существительного  (устно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гр.     Белый цветок - белые цве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ёплое море – тёплые мор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 гр. Сладкий пирог – сладкие пир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няя лента – синие л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 гр. Тёмный лес – тёмные ле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етлая юбка – светлые юб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 гр.  Храбрый воин – храбрые вой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сёлая песня – весёлые пес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7T15:10:42Z</dcterms:created>
  <dc:creator>-</dc:creator>
  <dc:description/>
  <dc:language>en-US</dc:language>
  <cp:lastModifiedBy>галка</cp:lastModifiedBy>
  <dcterms:modified xsi:type="dcterms:W3CDTF">2020-04-04T11:16:50Z</dcterms:modified>
  <cp:revision>9</cp:revision>
  <dc:subject/>
  <dc:title>Презентацию выполнил учитель начальных классов </dc:title>
</cp:coreProperties>
</file>