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99A-62B7-47EE-8D7E-63E41638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63C1-5D7A-4EE6-8955-4E46501C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F6C-700B-4D48-8EEA-618DDDF1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6B0-DBDE-4DD6-8591-070CE18E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F88-CCD5-40B6-8F08-D95BF940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7EC-E06B-4CDB-ACBD-35F16E01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2A96-0A09-4AB2-8577-BA0B1A69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546-E651-49FC-95CC-0B8974AE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4B75-E697-48C1-AF92-79F32FE6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46D-5F3D-4CC8-BEFB-ED37F07C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F61-7B2B-43DE-B268-AB40456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3DB-F22A-493D-92FA-4AADD5EA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7B3E-A0C0-4113-B5B7-3D2BE5134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: «Изменение имён прилагательных по числам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/Алгоритм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Прочитай пред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Найди имя прилагательное и имя существительное, с которым оно связа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Определи число имени прилагательного по имени существительн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…вилось яр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…нце. Летний дож…ь быстр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ончился. З…лёные листья ве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…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небе п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лось яркое (ед.ч.) со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це. Летний (ед.ч.) дож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ь быстро закончился.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ёные (мн.ч.) листья весело з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ум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смо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 стр. 93 упр.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ь рассказ о маме уст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А.Есенин «Черё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весною расцв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етки золотисты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кудри з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гом роса медв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лзает по ко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нею зелень п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яет в сереб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рядом у проталин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аве, между корн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ится маленький Серебряный ру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ёмуха душис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сившись сто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елень золотис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солнышке гор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чей волной грем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етки обда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крадчиво под круче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песенки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явился из-под сне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видал кусочек не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первый, самый неж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тый, маленьки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дсне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ini_2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Petuh"/>
          <p:cNvPicPr/>
          <p:nvPr/>
        </p:nvPicPr>
        <p:blipFill>
          <a:blip r:embed="rId1"/>
          <a:stretch/>
        </p:blipFill>
        <p:spPr>
          <a:xfrm>
            <a:off x="457200" y="1557360"/>
            <a:ext cx="4038480" cy="453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untitled"/>
          <p:cNvPicPr/>
          <p:nvPr/>
        </p:nvPicPr>
        <p:blipFill>
          <a:blip r:embed="rId2"/>
          <a:stretch/>
        </p:blipFill>
        <p:spPr>
          <a:xfrm>
            <a:off x="4992840" y="1557360"/>
            <a:ext cx="36115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существи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едм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мя прилагатель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часть речи, которая обозначает признак предм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чает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«Изменение имен прилагательных по числам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итай, определи число имени прилагательного по числу имени существительного  (устн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гр.     Белый цветок - белые ц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ёплое море – тёплые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гр. Сладкий пирог – сладкие пи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яя лента – синие л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. Тёмный лес – тёмные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лая юбка – светлые ю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.  Храбрый воин – храбрые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ёлая песня – весёлые 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5:10:42Z</dcterms:created>
  <dc:creator>-</dc:creator>
  <dc:description/>
  <dc:language>en-US</dc:language>
  <cp:lastModifiedBy>галка</cp:lastModifiedBy>
  <dcterms:modified xsi:type="dcterms:W3CDTF">2020-04-04T11:16:50Z</dcterms:modified>
  <cp:revision>9</cp:revision>
  <dc:subject/>
  <dc:title>Презентацию выполнил учитель начальных классов </dc:title>
</cp:coreProperties>
</file>